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B35-C7A6-40E6-98F4-08F8E36F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C83-19AB-4E7C-9BA5-52516985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AA3-CA07-41E2-AD57-3606622E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9B5-C417-40C5-9FCC-9659A87E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4710-E8E0-4AC0-B6EF-82B4D25D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126B-4FA0-4400-9C3D-2C309A65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FEFA-9AE9-4C1B-97BF-B51ED490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AE9F-A426-4119-81FF-6AF9BD08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B926-C3E6-431F-A32A-58AA6C52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D0FE-5B5C-486B-B61E-5EA84AA4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6AEA-023B-43EC-841A-2CE934B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D0A-9EFE-45CE-9B15-48E1E59F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17C3-F06D-40F3-BB0E-29822E1D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604D-43F9-4037-9391-52B3B982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D318-F7AA-4511-9DAD-118D765D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AD1C-28A1-402D-9C54-BFF5E241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73AB-D44B-4032-887B-EF707BBA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802-32DE-4731-96C4-5E40BB7A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ECA5-C025-47EE-A135-C564AE5A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A994-9675-4235-8247-4EE9E199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05E3-F278-4FE3-9A7F-02BC559C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C24-C533-4020-ABFC-46E58EFC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9399-2A34-4DC3-8F1C-55F8C46F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B427D-28B5-480A-9352-D73B589B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3BDBE-E030-46ED-9F6A-11CE9F62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FA801-E40B-44A4-8B9B-22022BD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C000-199A-4D54-A068-6AD4182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4A05-37F0-4A0C-B93C-465B58C6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94CC-0127-4CCA-ACAC-7D295BE7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D025-F750-48B3-B03B-70BCF357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DB07-2381-4810-AAAB-BA05AA05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74062-E686-4B2D-82DB-D9ED9668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F25E-0384-47CD-BCED-7A50D29F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8A9A-FE35-4A33-A5D7-A27AD06A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6A97D-4D41-47AF-97A4-F3EE0DA1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04BB-FB2A-471F-A5A7-C4C75BEE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6C06-76E2-4F45-A356-A4447BE2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2C85-E76A-47E2-86E8-38C8A153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3A91-B647-42A3-90E1-196B3D58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7C1C-39DA-495F-BE00-FE87B503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A6804-BCE7-45E4-B4FA-E04A7B7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DAB4B-2E85-47D1-921E-EE0E1B0A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E010B-2B19-4811-9FEF-68508039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715-D06C-4020-8EF5-2A90366E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3C1AD-BD71-45C6-8644-2BABEF7D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2F98A-91B1-4D81-A58A-F7A20EC3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52AFD-6E29-425B-BE01-DE549514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B8359-FAFB-44A7-8B97-1561B396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3ECB2-78F2-49BB-9396-703BDCD7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3CF4F-88FB-4504-9DFE-6B6B463C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49DDD-5FCB-40DD-A8A5-CC898469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3026-58AD-4FBC-815F-BAF3AC27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3EE89-2EC3-4A04-983E-2516527A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35A15-FE26-4715-8B6E-84133EE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96E-C754-4CAF-A45D-92CC7922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C1F9C-3CBA-4358-AA38-CA6F613B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ED35-2BBF-415F-AD59-B3133C7F7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30774-8A27-4B0F-A0D7-D17AF21A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32C-43C6-43CC-8D19-4C9A8254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9B7-F068-4021-A6CD-EEE3C684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73CD-E46C-4AFE-BC4B-E749699055C1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Группа 14"/>
          <p:cNvGrpSpPr/>
          <p:nvPr/>
        </p:nvGrpSpPr>
        <p:grpSpPr>
          <a:xfrm>
            <a:off x="826920" y="1219320"/>
            <a:ext cx="7490160" cy="83880"/>
            <a:chOff x="826920" y="1219320"/>
            <a:chExt cx="7490160" cy="83880"/>
          </a:xfrm>
        </p:grpSpPr>
        <p:sp>
          <p:nvSpPr>
            <p:cNvPr id="6" name="Прямая соединительная линия 12"/>
            <p:cNvSpPr/>
            <p:nvPr/>
          </p:nvSpPr>
          <p:spPr>
            <a:xfrm flipH="1">
              <a:off x="826920" y="1219320"/>
              <a:ext cx="749016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7" name="Прямая соединительная линия 13"/>
            <p:cNvSpPr/>
            <p:nvPr/>
          </p:nvSpPr>
          <p:spPr>
            <a:xfrm flipH="1">
              <a:off x="826920" y="1303200"/>
              <a:ext cx="749016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46" name="Рисунок 10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5242-70B5-4675-9477-59AAD95532C8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2"/>
          <p:cNvGrpSpPr/>
          <p:nvPr/>
        </p:nvGrpSpPr>
        <p:grpSpPr>
          <a:xfrm>
            <a:off x="0" y="5645160"/>
            <a:ext cx="9144000" cy="63360"/>
            <a:chOff x="0" y="5645160"/>
            <a:chExt cx="9144000" cy="63360"/>
          </a:xfrm>
        </p:grpSpPr>
        <p:sp>
          <p:nvSpPr>
            <p:cNvPr id="89" name="Прямая соединительная линия 10"/>
            <p:cNvSpPr/>
            <p:nvPr/>
          </p:nvSpPr>
          <p:spPr>
            <a:xfrm flipH="1">
              <a:off x="0" y="56451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1"/>
            <p:cNvSpPr/>
            <p:nvPr/>
          </p:nvSpPr>
          <p:spPr>
            <a:xfrm flipH="1">
              <a:off x="0" y="570852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grpSp>
        <p:nvGrpSpPr>
          <p:cNvPr id="91" name="Группа 13"/>
          <p:cNvGrpSpPr/>
          <p:nvPr/>
        </p:nvGrpSpPr>
        <p:grpSpPr>
          <a:xfrm>
            <a:off x="0" y="1143000"/>
            <a:ext cx="9144000" cy="63360"/>
            <a:chOff x="0" y="1143000"/>
            <a:chExt cx="9144000" cy="63360"/>
          </a:xfrm>
        </p:grpSpPr>
        <p:sp>
          <p:nvSpPr>
            <p:cNvPr id="92" name="Прямая соединительная линия 15"/>
            <p:cNvSpPr/>
            <p:nvPr/>
          </p:nvSpPr>
          <p:spPr>
            <a:xfrm>
              <a:off x="0" y="12063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6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94" name="Прямоугольник 17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96" name="Рисунок 9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97" name="Пояснительный текст"/>
          <p:cNvSpPr/>
          <p:nvPr/>
        </p:nvSpPr>
        <p:spPr>
          <a:xfrm>
            <a:off x="9258480" y="0"/>
            <a:ext cx="971280" cy="6858000"/>
          </a:xfrm>
          <a:custGeom>
            <a:avLst/>
            <a:gdLst>
              <a:gd name="textAreaLeft" fmla="*/ 27360 w 971280"/>
              <a:gd name="textAreaRight" fmla="*/ 943920 w 971280"/>
              <a:gd name="textAreaTop" fmla="*/ 27360 h 6858000"/>
              <a:gd name="textAreaBottom" fmla="*/ 6830640 h 6858000"/>
            </a:gdLst>
            <a:ahLst/>
            <a:rect l="textAreaLeft" t="textAreaTop" r="textAreaRight" b="textAreaBottom"/>
            <a:pathLst>
              <a:path w="21600" h="152464">
                <a:moveTo>
                  <a:pt x="2099" y="0"/>
                </a:moveTo>
                <a:arcTo wR="2099" hR="2099" stAng="16200000" swAng="-5400000"/>
                <a:lnTo>
                  <a:pt x="0" y="150365"/>
                </a:lnTo>
                <a:arcTo wR="2099" hR="2099" stAng="10800000" swAng="-5400000"/>
                <a:lnTo>
                  <a:pt x="19501" y="152464"/>
                </a:lnTo>
                <a:arcTo wR="2099" hR="2099" stAng="5400000" swAng="-5400000"/>
                <a:lnTo>
                  <a:pt x="21600" y="2099"/>
                </a:lnTo>
                <a:arcTo wR="2099" hR="2099" stAng="0" swAng="-5400000"/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ПРИМЕЧАНИЕ</a:t>
            </a:r>
            <a:endParaRPr b="0" lang="en-US" sz="1100" spc="-1" strike="noStrike">
              <a:solidFill>
                <a:srgbClr val="5148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Чтобы изменить изображение на этом слайде, выберите рисунок и удалите его. Затем нажмите значок "Рисунки" в заполнителе, чтобы вставить изображение.</a:t>
            </a:r>
            <a:endParaRPr b="0" lang="en-US" sz="12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 7"/>
          <p:cNvGrpSpPr/>
          <p:nvPr/>
        </p:nvGrpSpPr>
        <p:grpSpPr>
          <a:xfrm>
            <a:off x="0" y="2514600"/>
            <a:ext cx="9144000" cy="3193560"/>
            <a:chOff x="0" y="2514600"/>
            <a:chExt cx="9144000" cy="3193560"/>
          </a:xfrm>
        </p:grpSpPr>
        <p:grpSp>
          <p:nvGrpSpPr>
            <p:cNvPr id="137" name="Группа 8"/>
            <p:cNvGrpSpPr/>
            <p:nvPr/>
          </p:nvGrpSpPr>
          <p:grpSpPr>
            <a:xfrm>
              <a:off x="0" y="2514600"/>
              <a:ext cx="9144000" cy="63000"/>
              <a:chOff x="0" y="2514600"/>
              <a:chExt cx="9144000" cy="63000"/>
            </a:xfrm>
          </p:grpSpPr>
          <p:sp>
            <p:nvSpPr>
              <p:cNvPr id="138" name="Прямая соединительная линия 17"/>
              <p:cNvSpPr/>
              <p:nvPr/>
            </p:nvSpPr>
            <p:spPr>
              <a:xfrm>
                <a:off x="0" y="257760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8"/>
              <p:cNvSpPr/>
              <p:nvPr/>
            </p:nvSpPr>
            <p:spPr>
              <a:xfrm>
                <a:off x="0" y="251460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  <p:sp>
          <p:nvSpPr>
            <p:cNvPr id="140" name="Прямоугольник 9"/>
            <p:cNvSpPr/>
            <p:nvPr/>
          </p:nvSpPr>
          <p:spPr>
            <a:xfrm>
              <a:off x="0" y="2641320"/>
              <a:ext cx="9144000" cy="2940120"/>
            </a:xfrm>
            <a:prstGeom prst="rect">
              <a:avLst/>
            </a:prstGeom>
            <a:solidFill>
              <a:srgbClr val="514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grpSp>
          <p:nvGrpSpPr>
            <p:cNvPr id="141" name="Группа 10"/>
            <p:cNvGrpSpPr/>
            <p:nvPr/>
          </p:nvGrpSpPr>
          <p:grpSpPr>
            <a:xfrm>
              <a:off x="0" y="5645160"/>
              <a:ext cx="9144000" cy="63000"/>
              <a:chOff x="0" y="5645160"/>
              <a:chExt cx="9144000" cy="63000"/>
            </a:xfrm>
          </p:grpSpPr>
          <p:sp>
            <p:nvSpPr>
              <p:cNvPr id="142" name="Прямая соединительная линия 15"/>
              <p:cNvSpPr/>
              <p:nvPr/>
            </p:nvSpPr>
            <p:spPr>
              <a:xfrm flipH="1">
                <a:off x="0" y="564516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16"/>
              <p:cNvSpPr/>
              <p:nvPr/>
            </p:nvSpPr>
            <p:spPr>
              <a:xfrm flipH="1">
                <a:off x="0" y="570816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Рисунок 6" descr=""/>
          <p:cNvPicPr/>
          <p:nvPr/>
        </p:nvPicPr>
        <p:blipFill>
          <a:blip r:embed="rId2"/>
          <a:stretch/>
        </p:blipFill>
        <p:spPr>
          <a:xfrm>
            <a:off x="993600" y="0"/>
            <a:ext cx="1341720" cy="297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09F7-E8A8-4486-965A-1F5C313E31A3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0464-9EC1-4A63-8589-CCB4BFFB5F90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9"/>
          <p:cNvGrpSpPr/>
          <p:nvPr/>
        </p:nvGrpSpPr>
        <p:grpSpPr>
          <a:xfrm>
            <a:off x="6966000" y="453960"/>
            <a:ext cx="63360" cy="5634000"/>
            <a:chOff x="6966000" y="453960"/>
            <a:chExt cx="63360" cy="5634000"/>
          </a:xfrm>
        </p:grpSpPr>
        <p:sp>
          <p:nvSpPr>
            <p:cNvPr id="228" name="Прямая соединительная линия 10"/>
            <p:cNvSpPr/>
            <p:nvPr/>
          </p:nvSpPr>
          <p:spPr>
            <a:xfrm flipV="1">
              <a:off x="7029360" y="453960"/>
              <a:ext cx="0" cy="563400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 8"/>
            <p:cNvSpPr/>
            <p:nvPr/>
          </p:nvSpPr>
          <p:spPr>
            <a:xfrm flipV="1">
              <a:off x="6966000" y="453960"/>
              <a:ext cx="0" cy="563400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6C6F-56F6-4FF8-820C-C97E8A7B71D0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8720" y="2292480"/>
            <a:ext cx="7572240" cy="2219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4843"/>
                </a:solidFill>
                <a:latin typeface="Plantagenet Cherokee"/>
              </a:rPr>
              <a:t>ПРОЕКТ «ОДАРЕННЫЙ УЧИТЕЛЬ = ОДАРЕННЫЙ РЕБЁНОК» </a:t>
            </a:r>
            <a:endParaRPr b="0" lang="en-US" sz="44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28720" y="4511160"/>
            <a:ext cx="75722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4843"/>
                </a:solidFill>
                <a:latin typeface="Euphemia"/>
              </a:rPr>
              <a:t>в Ульчском муниципальном районе</a:t>
            </a:r>
            <a:endParaRPr b="0" lang="en-US" sz="18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6" descr=""/>
          <p:cNvPicPr/>
          <p:nvPr/>
        </p:nvPicPr>
        <p:blipFill>
          <a:blip r:embed="rId1"/>
          <a:stretch/>
        </p:blipFill>
        <p:spPr>
          <a:xfrm>
            <a:off x="176040" y="0"/>
            <a:ext cx="8571240" cy="65959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22400"/>
            <a:ext cx="8204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640" y="2988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ояснительная записк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муниципальном районе уделяется пристальное внимание работе с одарёнными детьми, накоплен определенный опыт организации мероприятий, направленных на выявление талантливых детей, социальной поддержки школьников, имеющих особые достижения в различных видах деятельности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ыявление одарённых детей начинается в ОО муниципального района с первой ступени обучения, где ведется работа по выявлению увлечений и способностей детей на основе наблюдения, изучения психологических особенностей, речи, памяти, логического мышления. 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8 школах муниципального района созданы научные общества учащихся, деятельность которых осуществляется по следующим направлениям: химико-биологическое, эколого-биологическое, физико-математическое, краеведческое, историко-литературное, лингвистическое, общественно-гуманитарное и другие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Ежегодно в муниципальном районе проводится школьный этап ( для учащихся 4-11 классов) и муниципальный этап Всероссийской олимпиады школьников среди учащихся 7-11 классов по 19 предметам. Победители и призеры муниципального этапа принимают участие в региональном этапе (2016/2017  учебный год – 11 участников, из которых 1 учащаяся стала призером олимпиады по ОБЖ, 2017/2018 учебный год – 29 участников)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учреждениях общего образования педагоги организуют занятия, направленные на развитие познавательных интересов учащихся в выбранной ими области, освоение учебного материала, не предусмотренного образовательными стандартами, через кружки, факультативы, элективные курсы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1413000"/>
            <a:ext cx="74869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Вместе с тем, практика последних лет работы с одарёнными детьми в муниципальном районе показывает, что существуют проблемы и нереализованные возможности в организации работы с одарёнными детьми: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не создана в полном объёме учебно-материальная база для организации работы с одаренными детьми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рганизация работы с детьми, мотивированными на успех, в ОО носит локальный характер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тсутствие высоких достижений учащихся в олимпиадном движении регионального, всероссийского уровней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педагогические работники ОО не всегда готовы осуществлять психолого-педагогическую поддержку одаренных детей.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работа с одаренными детьми требует особой профессиональной подготовки педагогов, внедрения современного программного обеспечения.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Таким образом, проект «Одаренный ребенок = одаренный учитель» направлен на преодоление обозначенных проблем. 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спорт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Наименование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«Одаренный ребёнок = одаренный учитель»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Куратор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Дяксул Л.В. 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Операторы проекта: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МКУ «Районный методический кабинет» Ульчского муниципального района Хабаровского края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Цель проекта: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 создание современной образовательной среды для выявления и сопровождения одаренных детей.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Задачи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1" name="Содержимое 3" descr=""/>
          <p:cNvPicPr/>
          <p:nvPr/>
        </p:nvPicPr>
        <p:blipFill>
          <a:blip r:embed="rId1"/>
          <a:stretch/>
        </p:blipFill>
        <p:spPr>
          <a:xfrm>
            <a:off x="-974880" y="1487520"/>
            <a:ext cx="8137800" cy="5108400"/>
          </a:xfrm>
          <a:prstGeom prst="rect">
            <a:avLst/>
          </a:prstGeom>
          <a:ln w="0">
            <a:noFill/>
          </a:ln>
        </p:spPr>
      </p:pic>
      <p:pic>
        <p:nvPicPr>
          <p:cNvPr id="282" name="Схема 4" descr=""/>
          <p:cNvPicPr/>
          <p:nvPr/>
        </p:nvPicPr>
        <p:blipFill>
          <a:blip r:embed="rId2"/>
          <a:stretch/>
        </p:blipFill>
        <p:spPr>
          <a:xfrm>
            <a:off x="5437080" y="1316160"/>
            <a:ext cx="3382920" cy="479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ртнеры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828720" y="1603440"/>
            <a:ext cx="74865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Риски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700280"/>
          <a:ext cx="7417080" cy="4206960"/>
        </p:xfrm>
        <a:graphic>
          <a:graphicData uri="http://schemas.openxmlformats.org/drawingml/2006/table">
            <a:tbl>
              <a:tblPr/>
              <a:tblGrid>
                <a:gridCol w="3961080"/>
                <a:gridCol w="3456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Риски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Способы устранения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Незаинтересованность участников образовательного процесса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оздание системы поощрения как учащихся, так и педагогов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Дефицит высококвалифицированных высокомотивированных педагогических кадр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организация повышения квалификации педагогов, привлечение молодых специалист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лабая материально-техническая база, недостаточное финансирование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финансовое планирование, привлечение дополнительных финансовых средств (спонсорская помощь)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Ожидаемые результаты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8" name="Объект 4" descr=""/>
          <p:cNvPicPr/>
          <p:nvPr/>
        </p:nvPicPr>
        <p:blipFill>
          <a:blip r:embed="rId1"/>
          <a:stretch/>
        </p:blipFill>
        <p:spPr>
          <a:xfrm>
            <a:off x="804960" y="1603440"/>
            <a:ext cx="7553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0:01:16Z</dcterms:created>
  <dc:creator>Юрок</dc:creator>
  <dc:description/>
  <dc:language>en-US</dc:language>
  <cp:lastModifiedBy>Альбина Александровна Базгутдинова</cp:lastModifiedBy>
  <dcterms:modified xsi:type="dcterms:W3CDTF">2018-06-14T04:57:36Z</dcterms:modified>
  <cp:revision>50</cp:revision>
  <dc:subject/>
  <dc:title>Слайд 1</dc:title>
</cp:coreProperties>
</file>